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303F8-A292-4DD2-A492-ADCAF3222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1DFD1-2D06-47A0-AF5A-9A39E4236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28FF-E1F3-4691-B223-18C8B7C63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2989A-76D2-45CC-83FC-26D9F015A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18D3F-60C5-4B9A-A698-1319C81608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77239-A07D-4D35-B5EC-AAA147C0F0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9C526-BA1C-4FCA-A639-74432D2BA0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BD397-5ABC-4364-9756-80553B15A3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C7A57-5B19-4324-86E4-2EEADAAD4E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E9249-8DD2-4AF0-8C93-02C9DC088C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6D04C-F504-4412-9589-674E0E1F0A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F754D-9523-4D62-B44A-602DC4D45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DE18C-7CD3-44CF-ADB3-BB2B094DFF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6F2BC-B494-4869-997E-F9A782E8A4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AB12C-24D0-48AB-9D15-351A03960E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EAB21-6F21-4A9F-8E2A-4AA76F14C5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B19AE-514F-4F94-A8B4-A84936380E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ECD27-584B-4F6A-A1EC-701AFB39C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3928C-8D1B-4E4B-B3BC-E8D596343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0A273-F881-4C84-8267-6FFA56470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63B38-DF0D-4F62-8BB2-6A9C0D479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2FB1D-F393-43DB-A86B-07B8459C6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716B5-033C-4601-9B22-A2AC1237C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CF1D-516A-447D-8173-ECBE8B74A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F6153E2-E1AD-4DE7-A269-09E37C58603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90CF1AC-C93A-488A-8558-4B201C7428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68FD2A6E-726E-46F1-B067-6F3789291E63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E9EA8F02-67FF-4A14-B755-7D8861F4438A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4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1-09-15T12:48:28Z</dcterms:modified>
  <cp:revision>360</cp:revision>
  <dc:subject/>
  <dc:title>No Slide Title</dc:title>
</cp:coreProperties>
</file>